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249-5153-4172-85F5-9964603AC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aculty.clintoncc.suny.edu/faculty/michael.gregory/files/bio%20102/bio%20102%20laboratory/fetal%20pig/Mouth_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ylivercanceroptions.com/mylivercanceroptions/pages.aspx?page=About/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9B3-385D-48AB-A1D4-0CF19E34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F8C-3DB1-4661-B700-9CA27FDD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280-7BB3-4688-AED2-57A6EE8B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110-2428-493F-BD1B-EB998F7F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52B-A8D8-4A45-B8A9-635D9E9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9D3-0C85-4CCE-8BC1-FD66405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C25-8B1B-403F-8F46-3150453F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D8-D8AC-4CED-9CF5-6CCA822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27D-9209-4137-A70F-A7B3BAA1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9A3-C304-4F27-8895-CEA31B2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14E-240E-4710-9A0B-43EEA38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29D-6647-44CB-A30E-508726C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8539-9850-47C4-A5FF-B442BE17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tal Pig Dis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5840" y="609480"/>
            <a:ext cx="7310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Spleen/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3000" y="1828800"/>
            <a:ext cx="505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5:01:10Z</dcterms:created>
  <dc:creator>rubina khan</dc:creator>
  <dc:description/>
  <dc:language>en-US</dc:language>
  <cp:lastModifiedBy>rubina khan</cp:lastModifiedBy>
  <dcterms:modified xsi:type="dcterms:W3CDTF">2015-01-13T15:15:03Z</dcterms:modified>
  <cp:revision>2</cp:revision>
  <dc:subject/>
  <dc:title>Fetal Pig Dissection</dc:title>
</cp:coreProperties>
</file>